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3A2B-383A-4B21-A7F3-BC60C2A99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3B20-9CBD-4BF1-9022-F2E966A73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590D-E360-47F0-B022-2296AADAB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D92A-F92C-4C30-8507-A40D559D2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831E8-D5EF-4694-98DC-E3CA01DD1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BCD64-F3D7-45F4-8E4C-72F83F72D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8C617-308C-4158-9220-9DC4B0426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AF8A6-75E0-43D5-AB93-31CFD76DD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CCCDD-E37D-4F77-A838-4BF3D85CF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26DF0-5204-491C-BD6D-77B11AAE3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4637B-3D5C-4895-B557-21DBF106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C7E1-3937-446F-87CC-A675D32CA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B6547-B750-4908-A906-1229B477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6F4B1-89A2-4612-904C-9EA9BD1E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60EC7-B4A0-42A0-8B41-798D26E18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64288-13F0-49EF-B708-9B1E5457A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8A38C-4B63-4303-B9BA-896D321A1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86E1-840C-4372-853E-B512D67C7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0F65-B063-4BD8-8746-7BBD1D909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552B-AC49-44A3-8794-7E07FA7C3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8991-3367-4A46-BE2A-E1AD82AE8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C33C-06D9-4835-B92B-B360827C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E0A2-8097-4FCC-988C-D715F7A3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3938-7E62-4C34-8D63-C39D7DD1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4B800-BD84-44E3-B37A-AA700AF0BD2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3D298-5933-4DA9-894F-B156975FD31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7524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fcc66"/>
                </a:solidFill>
                <a:latin typeface="Times New Roman"/>
              </a:rPr>
              <a:t>Crash Car Derby</a:t>
            </a:r>
            <a:endParaRPr b="0" i="1" lang="en-US" sz="9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cc"/>
                </a:solidFill>
                <a:latin typeface="Times New Roman"/>
              </a:rPr>
              <a:t>Examples</a:t>
            </a:r>
            <a:endParaRPr b="0" lang="en-US" sz="8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30680" y="5943600"/>
            <a:ext cx="195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ritten by Pam Brown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962520" y="6248520"/>
            <a:ext cx="1523880" cy="506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cc66"/>
                </a:solidFill>
                <a:latin typeface="Times New Roman"/>
              </a:rPr>
              <a:t>Crash Car Derby</a:t>
            </a:r>
            <a:endParaRPr b="0" i="1" lang="en-US" sz="7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5421600" cy="3603600"/>
          </a:xfrm>
          <a:prstGeom prst="rect">
            <a:avLst/>
          </a:prstGeom>
          <a:ln w="101520">
            <a:solidFill>
              <a:srgbClr val="ffffcc"/>
            </a:solidFill>
            <a:miter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cc66"/>
                </a:solidFill>
                <a:latin typeface="Times New Roman"/>
              </a:rPr>
              <a:t>Crash Car Derby</a:t>
            </a:r>
            <a:endParaRPr b="0" i="1" lang="en-US" sz="7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589120" y="2440080"/>
            <a:ext cx="3737160" cy="3274920"/>
          </a:xfrm>
          <a:prstGeom prst="rect">
            <a:avLst/>
          </a:prstGeom>
          <a:ln w="101520">
            <a:solidFill>
              <a:srgbClr val="ffffcc"/>
            </a:solidFill>
            <a:miter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cc66"/>
                </a:solidFill>
                <a:latin typeface="Times New Roman"/>
              </a:rPr>
              <a:t>Crash Car Derby</a:t>
            </a:r>
            <a:endParaRPr b="0" i="1" lang="en-US" sz="7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Objective: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Design a vehicle that can protect egg in a head on collision with a concrete wall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cc66"/>
                </a:solidFill>
                <a:latin typeface="Times New Roman"/>
              </a:rPr>
              <a:t>Crash Car Derby</a:t>
            </a:r>
            <a:endParaRPr b="0" i="1" lang="en-US" sz="7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81080" y="2590920"/>
            <a:ext cx="5457960" cy="3628800"/>
          </a:xfrm>
          <a:prstGeom prst="rect">
            <a:avLst/>
          </a:prstGeom>
          <a:ln w="101520">
            <a:solidFill>
              <a:srgbClr val="ffffcc"/>
            </a:solidFill>
            <a:miter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cc66"/>
                </a:solidFill>
                <a:latin typeface="Times New Roman"/>
              </a:rPr>
              <a:t>Crash Car Derby</a:t>
            </a:r>
            <a:endParaRPr b="0" i="1" lang="en-US" sz="7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905120" y="2590920"/>
            <a:ext cx="5448240" cy="3622680"/>
          </a:xfrm>
          <a:prstGeom prst="rect">
            <a:avLst/>
          </a:prstGeom>
          <a:ln w="101520">
            <a:solidFill>
              <a:srgbClr val="ffffcc"/>
            </a:solidFill>
            <a:miter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cc66"/>
                </a:solidFill>
                <a:latin typeface="Times New Roman"/>
              </a:rPr>
              <a:t>Crash Car Derby</a:t>
            </a:r>
            <a:endParaRPr b="0" i="1" lang="en-US" sz="7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905120" y="2514600"/>
            <a:ext cx="5457600" cy="3629160"/>
          </a:xfrm>
          <a:prstGeom prst="rect">
            <a:avLst/>
          </a:prstGeom>
          <a:ln w="101520">
            <a:solidFill>
              <a:srgbClr val="ffffcc"/>
            </a:solidFill>
            <a:miter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cc66"/>
                </a:solidFill>
                <a:latin typeface="Times New Roman"/>
              </a:rPr>
              <a:t>Crash Car Derby</a:t>
            </a:r>
            <a:endParaRPr b="0" i="1" lang="en-US" sz="7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676520" y="2590920"/>
            <a:ext cx="5457600" cy="3628800"/>
          </a:xfrm>
          <a:prstGeom prst="rect">
            <a:avLst/>
          </a:prstGeom>
          <a:ln w="101520">
            <a:solidFill>
              <a:srgbClr val="ffffcc"/>
            </a:solidFill>
            <a:miter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cc66"/>
                </a:solidFill>
                <a:latin typeface="Times New Roman"/>
              </a:rPr>
              <a:t>Crash Car Derby</a:t>
            </a:r>
            <a:endParaRPr b="0" i="1" lang="en-US" sz="7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828800" y="2514600"/>
            <a:ext cx="5421240" cy="3603600"/>
          </a:xfrm>
          <a:prstGeom prst="rect">
            <a:avLst/>
          </a:prstGeom>
          <a:ln w="101520">
            <a:solidFill>
              <a:srgbClr val="ffffcc"/>
            </a:solidFill>
            <a:miter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cc66"/>
                </a:solidFill>
                <a:latin typeface="Times New Roman"/>
              </a:rPr>
              <a:t>Crash Car Derby</a:t>
            </a:r>
            <a:endParaRPr b="0" i="1" lang="en-US" sz="7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752480" y="2590920"/>
            <a:ext cx="5457960" cy="3628800"/>
          </a:xfrm>
          <a:prstGeom prst="rect">
            <a:avLst/>
          </a:prstGeom>
          <a:ln w="101520">
            <a:solidFill>
              <a:srgbClr val="ffffcc"/>
            </a:solidFill>
            <a:miter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cc66"/>
                </a:solidFill>
                <a:latin typeface="Times New Roman"/>
              </a:rPr>
              <a:t>Crash Car Derby</a:t>
            </a:r>
            <a:endParaRPr b="0" i="1" lang="en-US" sz="7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89240" y="2743200"/>
            <a:ext cx="4441680" cy="2841480"/>
          </a:xfrm>
          <a:prstGeom prst="rect">
            <a:avLst/>
          </a:prstGeom>
          <a:ln w="101520">
            <a:solidFill>
              <a:srgbClr val="ffffcc"/>
            </a:solidFill>
            <a:miter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4T23:17:39Z</dcterms:created>
  <dc:creator>Valued Gateway Client</dc:creator>
  <dc:description/>
  <dc:language>en-US</dc:language>
  <cp:lastModifiedBy>Flanders</cp:lastModifiedBy>
  <dcterms:modified xsi:type="dcterms:W3CDTF">2010-02-01T21:27:54Z</dcterms:modified>
  <cp:revision>21</cp:revision>
  <dc:subject/>
  <dc:title>PowerPoint Presentation</dc:title>
</cp:coreProperties>
</file>